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1C82F-EA58-471E-8B0E-4260A2394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5BCD2-0A30-4D06-8AB6-0982127F6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8F610-4546-4FF6-B239-694CEDBB8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45C7B-DDF1-45F8-9AD6-936DE0AFC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83378-D5BE-479B-9AD5-4D86BC751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B5AC3-1973-4569-9414-B6BAF4B9C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2A0F4-32C8-4E22-B35E-78D7443BD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CDFB8-C5BC-4317-B224-C4BD21934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7BAB2-F70E-4913-95F2-6064902AB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577B7-8DDA-4AF3-8C4C-E45A0B238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6379C-B327-4521-9128-7A81600E3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69BA4-6BF7-4C97-B5EB-CFEDF13CD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6CEF7-550F-45AC-AC0D-DE9324FEC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BA8CA-83CA-4E52-A3B9-C777C5CCE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2ED29-EA16-4407-BE15-9B6FAECA1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7D27E-E28E-4EA3-9C4C-03E7544D9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83DC0-6074-400B-9A65-A8CC706CE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EEB514-9B0D-4337-A2BC-36DB181B6F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A69EF8-2DFA-4239-A8C8-D6556C2C49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ACA561-CBFB-4C59-859B-D566866BA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01EB6A-2FB9-4DD0-A08D-179BC7366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DA3BB-E8A7-43CA-AFE7-104F2928B1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DFCA1-0388-4A16-88E7-BD23841B7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15847-1E1E-408F-8445-A73E4EE3D4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04013-F524-4238-975B-8D308395FA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4A748-7D1B-4340-ACBD-ECABC9381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3B922-6FDA-494D-85AF-2C72CBFEA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D94553-CE4C-41B5-80BB-7692DD8D9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EDBB43-3C51-4A9B-B371-422F4E749A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7CE755-1933-4FA8-876E-07D52078B4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656E53-E645-4034-A854-4F255D68B3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66173B-FC20-4019-AFE3-9FA1815C0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C676D0-8846-464C-9CDF-5D41D388B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9CC5A-13C6-4BBE-9205-7591AFAE0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E879D9-9D19-4E59-984A-5D8C60FA2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447590-1AC7-4902-98F7-D100398A7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9BEF4-B019-4A69-AA6B-FD84AF5A6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E13A1-2569-4A88-84DE-E67EC0E09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A1B8E-4AA1-4F67-8B09-B2B010412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DC226-3F6A-4752-80EE-FE90B2B1E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3AEECF-75DD-4F76-A15F-3AC61DADE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4644C8-0CF0-403B-9B38-2F56B40CE3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DBD51C-07F0-4C05-B3AF-715D686B0B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D20FAE-0480-4612-AE1C-162C3C957F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71190-6BF2-4AD6-8CB9-F46D11CB2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D1E10C-04B4-4AEA-BB7A-875A116B09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D2370D-B88E-421B-9E98-00A63150D8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1F833C-9ED1-47AA-9710-F685E20968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E4EBE7-AB0A-46A4-97E0-E419F29107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12DA53-F626-4809-9A92-CE9D13C322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3510F0-6CAC-4052-9FA4-05625E56A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A4DE6D-422D-406A-A3EA-3ADE3DEB2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B004C-5289-48B5-A95A-5A86FCDF2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F2B67C-D688-4633-8E5E-235B41446B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4507A4-F874-44E8-A082-89B5A5212E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B640A-CB00-4640-8C02-ED934B8C9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2C3792-1FD7-4250-8A98-45EB688616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B6187D-5BE8-4C7A-AA6F-533E9E5C2D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8FC0E0-CC39-4AC6-8DE9-71A0A6DFB7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EF9DD4-D8CB-4E61-BA79-C3F374C71F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42F03A-591D-4660-9AE6-A6EB6A2F76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01A657-D2A7-4EDE-8BDD-DA5006935C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D62C48-EE00-4542-B571-536C55D25B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BAC84-C2F8-485B-8AED-CCCAC8CC1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444056-C7FD-45C4-B65B-04264602C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A8EFDB-1C33-46C8-AB7B-ECA7D1E9A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1B49F-974C-47B0-86B6-E4E293162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658FF5-C436-429D-BD7E-EDD0E5B4AF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20E4F9-59F2-4066-AA3F-B1CBCA6C16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C750C7-7FAD-44E6-95E7-61E7CA3487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A1892D-E65D-44E9-9D63-4BB2297FE0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72FCC-CEF6-428E-817F-3509F5D00A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691868-DADB-4A62-8BE8-BF5B1DFEE9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C469FE-8508-4034-BBC9-A00D6D21FA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EBA9E0-2036-495C-BBBF-2E9FD2C5E0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5A764C-D09C-4BEB-95C8-67830A95D5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9C7B1-2BDC-4654-84C4-B57BAB709F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5C1C3-44D4-425D-8A62-CE5678C79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A95F4F-F0E5-4469-8A36-6B0F5936C6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39641E-541B-4873-9AC3-91E4A83746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093F9C-8C79-4528-AB32-F26718B9F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2F4E71-FA2C-40CE-89EF-59B100C95A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F12102-C048-4ADF-AC79-FC0F0EB307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5573F-21CD-4B99-866E-568F56328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E747-3C46-492C-AB29-335B3FC4DE5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3D0B-8F25-4B2C-99CE-66911B5FB7B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6C5D-562B-40E1-8E58-CFBBCE99475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DFAA-E6AB-4137-8779-91C7A5B78F5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8A95-EBEC-4C52-9382-DA92B10E9CC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93B7-D412-4BF8-A05F-2D406346993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72F3-2F9A-4985-A8B8-2EA5785EB53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42explore.com/graphs.htm" TargetMode="External"/><Relationship Id="rId2" Type="http://schemas.openxmlformats.org/officeDocument/2006/relationships/hyperlink" Target="http://www.squidoo.com/how-to-make-a-timeline" TargetMode="External"/><Relationship Id="rId3" Type="http://schemas.openxmlformats.org/officeDocument/2006/relationships/hyperlink" Target="http://www.microsoft.com/education/createtimeline.mspx" TargetMode="External"/><Relationship Id="rId4" Type="http://schemas.openxmlformats.org/officeDocument/2006/relationships/hyperlink" Target="http://www.microsoft.com/education/timelinesword.mspx" TargetMode="External"/><Relationship Id="rId5" Type="http://schemas.openxmlformats.org/officeDocument/2006/relationships/hyperlink" Target="http://office.microsoft.com/en-us/powerpoint/HA103359591033.aspx" TargetMode="External"/><Relationship Id="rId6" Type="http://schemas.openxmlformats.org/officeDocument/2006/relationships/hyperlink" Target="http://office.microsoft.com/en-us/excel/HA102004991033.aspx" TargetMode="External"/><Relationship Id="rId7" Type="http://schemas.openxmlformats.org/officeDocument/2006/relationships/hyperlink" Target="https://owaportal3.fullerton.edu/owa/redir.aspx?C=d05cf570bfbe4c9295f97946e6dbb398&amp;URL=http://office.microsoft.com/en-us/word/CH100740901033.aspx?stt=1" TargetMode="External"/><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95280" y="0"/>
            <a:ext cx="7407360" cy="93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Visuals for Learning</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295280" y="914040"/>
            <a:ext cx="7407360" cy="6094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onstructing Visual Aids to Support Student Learning</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20" name="Picture 5" descr="watercyclesummary.jpg"/>
          <p:cNvPicPr/>
          <p:nvPr/>
        </p:nvPicPr>
        <p:blipFill>
          <a:blip r:embed="rId1"/>
          <a:stretch/>
        </p:blipFill>
        <p:spPr>
          <a:xfrm>
            <a:off x="1828800" y="1752480"/>
            <a:ext cx="6324480" cy="440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eb Resources for Creating Visuals</a:t>
            </a:r>
            <a:endParaRPr b="0" lang="en-US" sz="39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fontScale="91000"/>
          </a:bodyPr>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re are many web-based tools to help you construct a visual.</a:t>
            </a:r>
            <a:endParaRPr b="0" lang="en-US" sz="18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Web resources for creating charts and graphs:</a:t>
            </a:r>
            <a:r>
              <a:rPr b="0" lang="en-US" sz="2200" spc="-1" strike="noStrike">
                <a:solidFill>
                  <a:srgbClr val="000000"/>
                </a:solidFill>
                <a:latin typeface="Gill Sans MT"/>
              </a:rPr>
              <a:t> </a:t>
            </a:r>
            <a:r>
              <a:rPr b="0" lang="en-US" sz="1500" spc="-1" strike="noStrike" u="sng">
                <a:solidFill>
                  <a:srgbClr val="8dc765"/>
                </a:solidFill>
                <a:uFillTx/>
                <a:latin typeface="Gill Sans MT"/>
                <a:hlinkClick r:id="rId1"/>
              </a:rPr>
              <a:t>http://42explore.com/graphs.htm</a:t>
            </a:r>
            <a:r>
              <a:rPr b="0" lang="en-US" sz="1500" spc="-1" strike="noStrike">
                <a:solidFill>
                  <a:srgbClr val="000000"/>
                </a:solidFill>
                <a:latin typeface="Gill Sans MT"/>
              </a:rPr>
              <a:t> </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Web resources for creating timelines:</a:t>
            </a:r>
            <a:r>
              <a:rPr b="0" lang="en-US" sz="2200" spc="-1" strike="noStrike">
                <a:solidFill>
                  <a:srgbClr val="000000"/>
                </a:solidFill>
                <a:latin typeface="Gill Sans MT"/>
              </a:rPr>
              <a:t> </a:t>
            </a:r>
            <a:r>
              <a:rPr b="0" lang="en-US" sz="1500" spc="-1" strike="noStrike" u="sng">
                <a:solidFill>
                  <a:srgbClr val="8dc765"/>
                </a:solidFill>
                <a:uFillTx/>
                <a:latin typeface="Gill Sans MT"/>
                <a:hlinkClick r:id="rId2"/>
              </a:rPr>
              <a:t>http://www.squidoo.com/how-to-make-a-timeline</a:t>
            </a:r>
            <a:r>
              <a:rPr b="0" lang="en-US" sz="1500" spc="-1" strike="noStrike">
                <a:solidFill>
                  <a:srgbClr val="000000"/>
                </a:solidFill>
                <a:latin typeface="Gill Sans MT"/>
              </a:rPr>
              <a:t> </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reate a timeline in Excel:</a:t>
            </a:r>
            <a:r>
              <a:rPr b="0" lang="en-US" sz="2200" spc="-1" strike="noStrike">
                <a:solidFill>
                  <a:srgbClr val="000000"/>
                </a:solidFill>
                <a:latin typeface="Gill Sans MT"/>
              </a:rPr>
              <a:t> </a:t>
            </a:r>
            <a:r>
              <a:rPr b="0" lang="en-US" sz="1500" spc="-1" strike="noStrike" u="sng">
                <a:solidFill>
                  <a:srgbClr val="8dc765"/>
                </a:solidFill>
                <a:uFillTx/>
                <a:latin typeface="Gill Sans MT"/>
                <a:hlinkClick r:id="rId3"/>
              </a:rPr>
              <a:t>http://www.microsoft.com/education/createtimeline.mspx</a:t>
            </a:r>
            <a:r>
              <a:rPr b="0" lang="en-US" sz="1500" spc="-1" strike="noStrike">
                <a:solidFill>
                  <a:srgbClr val="000000"/>
                </a:solidFill>
                <a:latin typeface="Gill Sans MT"/>
              </a:rPr>
              <a:t> </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reate a timeline in Word: </a:t>
            </a:r>
            <a:r>
              <a:rPr b="0" lang="en-US" sz="1500" spc="-1" strike="noStrike" u="sng">
                <a:solidFill>
                  <a:srgbClr val="8dc765"/>
                </a:solidFill>
                <a:uFillTx/>
                <a:latin typeface="Gill Sans MT"/>
                <a:hlinkClick r:id="rId4"/>
              </a:rPr>
              <a:t>http://www.microsoft.com/education/timelinesword.mspx</a:t>
            </a:r>
            <a:r>
              <a:rPr b="0" lang="en-US" sz="1500" spc="-1" strike="noStrike">
                <a:solidFill>
                  <a:srgbClr val="000000"/>
                </a:solidFill>
                <a:latin typeface="Gill Sans MT"/>
              </a:rPr>
              <a:t> </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reate a diagram in Powerpoint: </a:t>
            </a:r>
            <a:r>
              <a:rPr b="0" lang="en-US" sz="1500" spc="-1" strike="noStrike" u="sng">
                <a:solidFill>
                  <a:srgbClr val="8dc765"/>
                </a:solidFill>
                <a:uFillTx/>
                <a:latin typeface="Gill Sans MT"/>
                <a:hlinkClick r:id="rId5"/>
              </a:rPr>
              <a:t>http://office.microsoft.com/en-us/powerpoint/HA103359591033.aspx</a:t>
            </a:r>
            <a:r>
              <a:rPr b="0" lang="en-US" sz="1500" spc="-1" strike="noStrike">
                <a:solidFill>
                  <a:srgbClr val="000000"/>
                </a:solidFill>
                <a:latin typeface="Gill Sans MT"/>
              </a:rPr>
              <a:t> </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reate a chart or graph in Excel: </a:t>
            </a:r>
            <a:r>
              <a:rPr b="0" lang="en-US" sz="1500" spc="-1" strike="noStrike" u="sng">
                <a:solidFill>
                  <a:srgbClr val="8dc765"/>
                </a:solidFill>
                <a:uFillTx/>
                <a:latin typeface="Gill Sans MT"/>
                <a:hlinkClick r:id="rId6"/>
              </a:rPr>
              <a:t>http://office.microsoft.com/en-us/excel/HA102004991033.aspx</a:t>
            </a:r>
            <a:r>
              <a:rPr b="0" lang="en-US" sz="1500" spc="-1" strike="noStrike">
                <a:solidFill>
                  <a:srgbClr val="000000"/>
                </a:solidFill>
                <a:latin typeface="Gill Sans MT"/>
              </a:rPr>
              <a:t> </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MT"/>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mos/Tutorials for the Microsoft Office Suite:</a:t>
            </a:r>
            <a:endParaRPr b="0" lang="en-US" sz="18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Word: </a:t>
            </a:r>
            <a:r>
              <a:rPr b="0" lang="en-US" sz="1500" spc="-1" strike="noStrike" u="sng">
                <a:solidFill>
                  <a:srgbClr val="8dc765"/>
                </a:solidFill>
                <a:uFillTx/>
                <a:latin typeface="Gill Sans MT"/>
                <a:hlinkClick r:id="rId7"/>
              </a:rPr>
              <a:t>http://office.microsoft.com/en-us/word/CH100740901033.aspx?stt=1</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Powerpoint: http://office.microsoft.com/en-us/powerpoint/CH100740871033.aspx</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Publisher: http://office.microsoft.com/en-us/publisher/CH100743501033.aspx</a:t>
            </a:r>
            <a:endParaRPr b="0" lang="en-US" sz="1500" spc="-1" strike="noStrike">
              <a:solidFill>
                <a:srgbClr val="000000"/>
              </a:solidFill>
              <a:latin typeface="Gill Sans MT"/>
            </a:endParaRPr>
          </a:p>
          <a:p>
            <a:pPr lvl="1" marL="582120" indent="-2149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Excel: http://office.microsoft.com/en-us/excel/CH100740791033.aspx</a:t>
            </a:r>
            <a:endParaRPr b="0" lang="en-US" sz="1500" spc="-1" strike="noStrike">
              <a:solidFill>
                <a:srgbClr val="000000"/>
              </a:solidFill>
              <a:latin typeface="Gill Sans MT"/>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Your Task</a:t>
            </a:r>
            <a:endParaRPr b="0" lang="en-US" sz="4300" spc="-1" strike="noStrike">
              <a:solidFill>
                <a:srgbClr val="572314"/>
              </a:solidFill>
              <a:latin typeface="Gill Sans MT"/>
            </a:endParaRPr>
          </a:p>
        </p:txBody>
      </p:sp>
      <p:sp>
        <p:nvSpPr>
          <p:cNvPr id="341" name=""/>
          <p:cNvSpPr txBox="1"/>
          <p:nvPr/>
        </p:nvSpPr>
        <p:spPr>
          <a:xfrm>
            <a:off x="1142640" y="1447920"/>
            <a:ext cx="7791480" cy="44193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Design a visual aid for your unit that will help students form a mental model of a topic or issue that is important and can be supported by a visual. </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Use the SOI model to help design an effective visual.</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Complete the SOI table in “Designing a Visual Aid,” design your visual and embed or paste your visual aid in the document. Post your visual on the class Wiki.</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graphicFrame>
        <p:nvGraphicFramePr>
          <p:cNvPr id="342" name="Object 2"/>
          <p:cNvGraphicFramePr/>
          <p:nvPr/>
        </p:nvGraphicFramePr>
        <p:xfrm>
          <a:off x="6477120" y="5943600"/>
          <a:ext cx="914400" cy="714240"/>
        </p:xfrm>
        <a:graphic>
          <a:graphicData uri="http://schemas.openxmlformats.org/presentationml/2006/ole">
            <p:oleObj progId="Word.Document.12" r:id="rId1" spid="">
              <p:embed/>
              <p:pic>
                <p:nvPicPr>
                  <p:cNvPr id="343" name="Object 2" descr=""/>
                  <p:cNvPicPr/>
                  <p:nvPr/>
                </p:nvPicPr>
                <p:blipFill>
                  <a:blip r:embed="rId2"/>
                  <a:stretch/>
                </p:blipFill>
                <p:spPr>
                  <a:xfrm>
                    <a:off x="6477120" y="59436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Knowledge Construction</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The ultimate goal of education is to help students construct their own knowledge of a given topic (not to impose your knowledge of the topic upon them).</a:t>
            </a:r>
            <a:endParaRPr b="0" lang="en-US" sz="27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It is the teacher’s role to design experiences that enable students to make meaning out of information presented to them (this is referred to as “Knowledge Construction”).</a:t>
            </a:r>
            <a:endParaRPr b="0" lang="en-US" sz="27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One way to help students construct knowledge is to provide visual aids that support the concepts being taught.</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ow do Visuals Help?</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Visuals help students learn in a variety of ways</a:t>
            </a:r>
            <a:endParaRPr b="0" lang="en-US" sz="25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isuals help students make connections to prior knowledge</a:t>
            </a: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isuals help students select and organize important information and integrate it with existing knowledge</a:t>
            </a: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isuals help students scaffold new information</a:t>
            </a: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isuals help students buttress troublesome parts of a text and help clarify points the author is trying to make</a:t>
            </a:r>
            <a:endParaRPr b="0" lang="en-US" sz="2200" spc="-1" strike="noStrike">
              <a:solidFill>
                <a:srgbClr val="000000"/>
              </a:solidFill>
              <a:latin typeface="Gill Sans MT"/>
            </a:endParaRPr>
          </a:p>
          <a:p>
            <a:pPr lvl="1" marL="594720" indent="-21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isuals help students transfer knowledge for use in novel situations.</a:t>
            </a:r>
            <a:endParaRPr b="0" lang="en-US" sz="22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560" y="15192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ormation of a Mental Model</a:t>
            </a:r>
            <a:endParaRPr b="0" lang="en-US" sz="4300" spc="-1" strike="noStrike">
              <a:solidFill>
                <a:srgbClr val="572314"/>
              </a:solidFill>
              <a:latin typeface="Gill Sans MT"/>
            </a:endParaRPr>
          </a:p>
        </p:txBody>
      </p:sp>
      <p:pic>
        <p:nvPicPr>
          <p:cNvPr id="326" name="Content Placeholder 3" descr=""/>
          <p:cNvPicPr/>
          <p:nvPr/>
        </p:nvPicPr>
        <p:blipFill>
          <a:blip r:embed="rId1"/>
          <a:stretch/>
        </p:blipFill>
        <p:spPr>
          <a:xfrm>
            <a:off x="1127160" y="1901880"/>
            <a:ext cx="7669080" cy="4657680"/>
          </a:xfrm>
          <a:prstGeom prst="rect">
            <a:avLst/>
          </a:prstGeom>
          <a:ln w="0">
            <a:noFill/>
          </a:ln>
        </p:spPr>
      </p:pic>
      <p:sp>
        <p:nvSpPr>
          <p:cNvPr id="327" name="TextBox 4"/>
          <p:cNvSpPr/>
          <p:nvPr/>
        </p:nvSpPr>
        <p:spPr>
          <a:xfrm>
            <a:off x="1143000" y="121932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isuals help students internalize new information by forming a mental model of the concept being tau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signing a Visual Aid</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hink of a topic within your unit where students could benefit from using a visual aid to learn the concept.</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Use the SOI (select, organize, integrate) model to help design an effective visual aid.</a:t>
            </a:r>
            <a:endParaRPr b="0" lang="en-US" sz="3000" spc="-1" strike="noStrike">
              <a:solidFill>
                <a:srgbClr val="000000"/>
              </a:solidFill>
              <a:latin typeface="Gill Sans MT"/>
            </a:endParaRPr>
          </a:p>
          <a:p>
            <a:pPr lvl="1" marL="613800" indent="-2268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58d01"/>
                </a:solidFill>
                <a:latin typeface="Gill Sans MT"/>
              </a:rPr>
              <a:t>Select</a:t>
            </a:r>
            <a:r>
              <a:rPr b="0" lang="en-US" sz="2600" spc="-1" strike="noStrike">
                <a:solidFill>
                  <a:srgbClr val="000000"/>
                </a:solidFill>
                <a:latin typeface="Gill Sans MT"/>
              </a:rPr>
              <a:t> important and relevant information about the topic</a:t>
            </a:r>
            <a:endParaRPr b="0" lang="en-US" sz="2600" spc="-1" strike="noStrike">
              <a:solidFill>
                <a:srgbClr val="000000"/>
              </a:solidFill>
              <a:latin typeface="Gill Sans MT"/>
            </a:endParaRPr>
          </a:p>
          <a:p>
            <a:pPr lvl="1" marL="613800" indent="-2268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58d01"/>
                </a:solidFill>
                <a:latin typeface="Gill Sans MT"/>
              </a:rPr>
              <a:t>Organize</a:t>
            </a:r>
            <a:r>
              <a:rPr b="0" lang="en-US" sz="2600" spc="-1" strike="noStrike">
                <a:solidFill>
                  <a:srgbClr val="000000"/>
                </a:solidFill>
                <a:latin typeface="Gill Sans MT"/>
              </a:rPr>
              <a:t> it into a meaningful pattern (chart, graph, diagram, map, etc)</a:t>
            </a:r>
            <a:endParaRPr b="0" lang="en-US" sz="2600" spc="-1" strike="noStrike">
              <a:solidFill>
                <a:srgbClr val="000000"/>
              </a:solidFill>
              <a:latin typeface="Gill Sans MT"/>
            </a:endParaRPr>
          </a:p>
          <a:p>
            <a:pPr lvl="1" marL="613800" indent="-2268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58d01"/>
                </a:solidFill>
                <a:latin typeface="Gill Sans MT"/>
              </a:rPr>
              <a:t>Integrate</a:t>
            </a:r>
            <a:r>
              <a:rPr b="0" lang="en-US" sz="2600" spc="-1" strike="noStrike">
                <a:solidFill>
                  <a:srgbClr val="000000"/>
                </a:solidFill>
                <a:latin typeface="Gill Sans MT"/>
              </a:rPr>
              <a:t> the new concept with existing knowledge</a:t>
            </a:r>
            <a:endParaRPr b="0" lang="en-US" sz="26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a:t>
            </a:r>
            <a:endParaRPr b="0" lang="en-US" sz="43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onsider the following text passage from a 7</a:t>
            </a:r>
            <a:r>
              <a:rPr b="0" lang="en-US" sz="1500" spc="-1" strike="noStrike" baseline="30000">
                <a:solidFill>
                  <a:srgbClr val="000000"/>
                </a:solidFill>
                <a:latin typeface="Gill Sans MT"/>
              </a:rPr>
              <a:t>th</a:t>
            </a:r>
            <a:r>
              <a:rPr b="0" lang="en-US" sz="1500" spc="-1" strike="noStrike">
                <a:solidFill>
                  <a:srgbClr val="000000"/>
                </a:solidFill>
                <a:latin typeface="Gill Sans MT"/>
              </a:rPr>
              <a:t> grade world history textbook…</a:t>
            </a:r>
            <a:endParaRPr b="0" lang="en-US" sz="15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	</a:t>
            </a:r>
            <a:r>
              <a:rPr b="0" lang="en-US" sz="1000" spc="-1" strike="noStrike">
                <a:solidFill>
                  <a:srgbClr val="000000"/>
                </a:solidFill>
                <a:latin typeface="Gill Sans MT"/>
              </a:rPr>
              <a:t>	</a:t>
            </a:r>
            <a:r>
              <a:rPr b="0" lang="en-US" sz="1000" spc="-1" strike="noStrike">
                <a:solidFill>
                  <a:srgbClr val="000000"/>
                </a:solidFill>
                <a:latin typeface="Gill Sans MT"/>
              </a:rPr>
              <a:t>Though built for government use, new roads and waterways promoted trade and the spread of ideas throughout China. At about the same time, Chinese farming became more productive. Around the year 1000, travelers introduced a fast-ripening rice to south China from the area that is now Cambodia. Farmers could now plant two or sometimes even three crops of rice each year instead of just one. To further improve agriculture, the leaders of Tang and the Song dynasties assigned plots of land to free peasants. Government officials taught farmers to build irrigation ditches and dams with pumps driven by human, water, or wind power. Farmers then turned dry land into paddies, or wet fields, to grow more rice.</a:t>
            </a:r>
            <a:endParaRPr b="0" lang="en-US" sz="10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	</a:t>
            </a:r>
            <a:r>
              <a:rPr b="0" lang="en-US" sz="1000" spc="-1" strike="noStrike">
                <a:solidFill>
                  <a:srgbClr val="000000"/>
                </a:solidFill>
                <a:latin typeface="Gill Sans MT"/>
              </a:rPr>
              <a:t>	</a:t>
            </a:r>
            <a:r>
              <a:rPr b="0" lang="en-US" sz="1000" spc="-1" strike="noStrike">
                <a:solidFill>
                  <a:srgbClr val="000000"/>
                </a:solidFill>
                <a:latin typeface="Gill Sans MT"/>
              </a:rPr>
              <a:t>A population shift resulted from this boom in agriculture. Before the year 1000, the majority of the population of China lived in the north. But, southern China was better suited for growing rice than northern China. As more and more land was turned into rice paddies, more and more people could live on what the land produced. Furthermore, the new roads and waterways helped the farmers bring their surplus crops to market making more food available to the people of southern China. Therefore, the population of southern China grew steadily. Also, Mongol invasions in the north forced many to flee to the south. Many northerners became tenants on large southern rice farms. Because of these reasons, the majority of the population in China shifted from the north to the south.</a:t>
            </a:r>
            <a:endParaRPr b="0" lang="en-US" sz="1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might a visual help students make sense of this information?</a:t>
            </a:r>
            <a:endParaRPr b="0" lang="en-US" sz="1800" spc="-1" strike="noStrike">
              <a:solidFill>
                <a:srgbClr val="000000"/>
              </a:solidFill>
              <a:latin typeface="Gill Sans MT"/>
            </a:endParaRPr>
          </a:p>
          <a:p>
            <a:pPr lvl="1" marL="626760" indent="-23148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rst,</a:t>
            </a:r>
            <a:r>
              <a:rPr b="0" lang="en-US" sz="1500" spc="-1" strike="noStrike">
                <a:solidFill>
                  <a:srgbClr val="c58d01"/>
                </a:solidFill>
                <a:latin typeface="Gill Sans MT"/>
              </a:rPr>
              <a:t> select</a:t>
            </a:r>
            <a:r>
              <a:rPr b="0" lang="en-US" sz="1500" spc="-1" strike="noStrike">
                <a:solidFill>
                  <a:srgbClr val="000000"/>
                </a:solidFill>
                <a:latin typeface="Gill Sans MT"/>
              </a:rPr>
              <a:t> the relevant information</a:t>
            </a:r>
            <a:endParaRPr b="0" lang="en-US" sz="1500" spc="-1" strike="noStrike">
              <a:solidFill>
                <a:srgbClr val="000000"/>
              </a:solidFill>
              <a:latin typeface="Gill Sans MT"/>
            </a:endParaRPr>
          </a:p>
          <a:p>
            <a:pPr lvl="1" marL="626760" indent="-23148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Next, </a:t>
            </a:r>
            <a:r>
              <a:rPr b="0" lang="en-US" sz="1500" spc="-1" strike="noStrike">
                <a:solidFill>
                  <a:srgbClr val="c58d01"/>
                </a:solidFill>
                <a:latin typeface="Gill Sans MT"/>
              </a:rPr>
              <a:t>organize</a:t>
            </a:r>
            <a:r>
              <a:rPr b="0" lang="en-US" sz="1500" spc="-1" strike="noStrike">
                <a:solidFill>
                  <a:srgbClr val="000000"/>
                </a:solidFill>
                <a:latin typeface="Gill Sans MT"/>
              </a:rPr>
              <a:t> it into a meaningful pattern</a:t>
            </a:r>
            <a:endParaRPr b="0" lang="en-US" sz="1500" spc="-1" strike="noStrike">
              <a:solidFill>
                <a:srgbClr val="000000"/>
              </a:solidFill>
              <a:latin typeface="Gill Sans MT"/>
            </a:endParaRPr>
          </a:p>
          <a:p>
            <a:pPr lvl="1" marL="626760" indent="-23148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en,  </a:t>
            </a:r>
            <a:r>
              <a:rPr b="0" lang="en-US" sz="1500" spc="-1" strike="noStrike">
                <a:solidFill>
                  <a:srgbClr val="c58d01"/>
                </a:solidFill>
                <a:latin typeface="Gill Sans MT"/>
              </a:rPr>
              <a:t>integrate</a:t>
            </a:r>
            <a:r>
              <a:rPr b="0" lang="en-US" sz="1500" spc="-1" strike="noStrike">
                <a:solidFill>
                  <a:srgbClr val="000000"/>
                </a:solidFill>
                <a:latin typeface="Gill Sans MT"/>
              </a:rPr>
              <a:t> it with existing knowledge </a:t>
            </a:r>
            <a:endParaRPr b="0" lang="en-US" sz="15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w look at the SOI model and the graph on the following slides. How does the graph meet the SOI requirement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elect, Organize and Integrate</a:t>
            </a:r>
            <a:endParaRPr b="0" lang="en-US" sz="4300" spc="-1" strike="noStrike">
              <a:solidFill>
                <a:srgbClr val="572314"/>
              </a:solidFill>
              <a:latin typeface="Gill Sans MT"/>
            </a:endParaRPr>
          </a:p>
        </p:txBody>
      </p:sp>
      <p:graphicFrame>
        <p:nvGraphicFramePr>
          <p:cNvPr id="333" name=""/>
          <p:cNvGraphicFramePr/>
          <p:nvPr/>
        </p:nvGraphicFramePr>
        <p:xfrm>
          <a:off x="1295280" y="1447920"/>
          <a:ext cx="7499520" cy="5029200"/>
        </p:xfrm>
        <a:graphic>
          <a:graphicData uri="http://schemas.openxmlformats.org/drawingml/2006/table">
            <a:tbl>
              <a:tblPr/>
              <a:tblGrid>
                <a:gridCol w="1874880"/>
                <a:gridCol w="1874880"/>
                <a:gridCol w="1874880"/>
                <a:gridCol w="18748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Select Important El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rganize into a meaningful patte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Integrate with existing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Best type of vis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8394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Before A.D. 1000, the majority of the population lived in Chi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gricultural improvements are introduced in the Sou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Mongols attack in the nor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Population increases in the south and decreases in the nor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 majority of the population shifts from the north to the south</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re is a clear cause-effect pattern in th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re are two critical events that lead to a change in the construct (agricultural improvements and Mongol invas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se critical events produce a significant change (the majority of the population shifts from the north to the sou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By middle school, most students have been exposed to cause-effect patterns in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y know from prior experience that warfare causes death, and better agriculture (more food) causes population grow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refore, students make cause-effect connections between the Mongol attacks and a decline in the population of the nor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hey also make connections between improved agricultural techniques and an increase in population in the sout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 line graph would be the best visual a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 line graph demonstrates change over time and appropriately links the chunks of inform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Visual Aid - Graph</a:t>
            </a:r>
            <a:endParaRPr b="0" lang="en-US" sz="4300" spc="-1" strike="noStrike">
              <a:solidFill>
                <a:srgbClr val="572314"/>
              </a:solidFill>
              <a:latin typeface="Gill Sans MT"/>
            </a:endParaRPr>
          </a:p>
        </p:txBody>
      </p:sp>
      <p:pic>
        <p:nvPicPr>
          <p:cNvPr id="335" name="Content Placeholder 3" descr="New China.jpg"/>
          <p:cNvPicPr/>
          <p:nvPr/>
        </p:nvPicPr>
        <p:blipFill>
          <a:blip r:embed="rId1"/>
          <a:stretch/>
        </p:blipFill>
        <p:spPr>
          <a:xfrm>
            <a:off x="1744560" y="1447920"/>
            <a:ext cx="688032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Visual Options</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re are many, many options for creating visual aids to support student learning.</a:t>
            </a:r>
            <a:endParaRPr b="0" lang="en-US" sz="32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raph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art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agram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ap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notated illustration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ideo demonstration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imelines</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d more….</a:t>
            </a:r>
            <a:endParaRPr b="0" lang="en-US" sz="2800" spc="-1" strike="noStrike">
              <a:solidFill>
                <a:srgbClr val="000000"/>
              </a:solidFill>
              <a:latin typeface="Gill Sans MT"/>
            </a:endParaRPr>
          </a:p>
          <a:p>
            <a:pPr lvl="1" marL="607680" indent="-2246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23:34:21Z</dcterms:created>
  <dc:creator>Fullerton</dc:creator>
  <dc:description/>
  <dc:language>en-US</dc:language>
  <cp:lastModifiedBy>Ana Mack</cp:lastModifiedBy>
  <dcterms:modified xsi:type="dcterms:W3CDTF">2011-05-01T23:26:40Z</dcterms:modified>
  <cp:revision>115</cp:revision>
  <dc:subject/>
  <dc:title>Visuals for learning</dc:title>
</cp:coreProperties>
</file>